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9C50-0D23-4638-8E46-D53E4F417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93A4-7416-4017-9A85-0BF92077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D411-F1EC-4076-B9D7-B0A7BE0D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FB34-E40B-4F82-AC72-478B393F6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F993-E219-42C0-8CD4-70FA3C08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92ED-227C-46EB-B1E9-31FD2CDA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C5E6-E50C-486D-A304-FA569978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EA1D-DC1C-41E7-BC50-C6517E46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CBE9-8C89-453F-847A-3F448552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5AB0-DB29-4D05-AF77-BEBCC953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A3F3-098E-483D-B4DC-BF4415B3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FD44-456D-470E-8900-AE553481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89D6-AC16-44CC-BCAB-E649E1488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Me llamo __________ Clase 801 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La fecha es el 25 de noviembre del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Arial"/>
              </a:rPr>
              <a:t>Propósito # 30: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¿Cómo terminamos el repaso para la prueba del lun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rar GRAMATICA EN V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r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puntes activ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tar los ejercicios del vide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UE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encia de verb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O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 2 grupos con IGUAL NUMERO DE PERSONA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grupo ganador tiene 2 puntos adicionales en la prueba de mañ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 Conjuga los verbos de bo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80880" y="1371600"/>
          <a:ext cx="8458200" cy="5545080"/>
        </p:xfrm>
        <a:graphic>
          <a:graphicData uri="http://schemas.openxmlformats.org/drawingml/2006/table">
            <a:tbl>
              <a:tblPr/>
              <a:tblGrid>
                <a:gridCol w="1828800"/>
                <a:gridCol w="2590920"/>
                <a:gridCol w="1752480"/>
                <a:gridCol w="2286000"/>
              </a:tblGrid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n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 understa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t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 fee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 Conjuga los verbos de bo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880" y="1371600"/>
          <a:ext cx="8458200" cy="5545080"/>
        </p:xfrm>
        <a:graphic>
          <a:graphicData uri="http://schemas.openxmlformats.org/drawingml/2006/table">
            <a:tbl>
              <a:tblPr/>
              <a:tblGrid>
                <a:gridCol w="1828800"/>
                <a:gridCol w="2590920"/>
                <a:gridCol w="1752480"/>
                <a:gridCol w="2286000"/>
              </a:tblGrid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g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 pla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 count/tel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-Copia y completa con la forma correc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no _________ los libros. (per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rco _________ mas tareas. (quer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icardo me __________ a llamar (vol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sotros __________ estudiar mas (po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los y Rosa ___________a las nueve. (dorm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ú ___________ mucho. (ment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osotros ____________ béisbol. (jug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_________ la historia. (cont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15:54:37Z</dcterms:created>
  <dc:creator>Helen Zumaeta</dc:creator>
  <dc:description/>
  <dc:language>en-US</dc:language>
  <cp:lastModifiedBy>Helen Zumaeta</cp:lastModifiedBy>
  <dcterms:modified xsi:type="dcterms:W3CDTF">2014-11-25T15:36:55Z</dcterms:modified>
  <cp:revision>7</cp:revision>
  <dc:subject/>
  <dc:title>Me llamo __________ Clase 6 nh/il La fecha es el 11 de mayo del 2011</dc:title>
</cp:coreProperties>
</file>